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9F83-13CF-403D-A929-46AB34EF7B5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1DF3-BBA1-4AAD-A3CF-034D0C39BD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62A4-1D13-4247-997A-AABF9EFEA8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AA6-7E71-47C9-9C55-3A1F77AB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93B-C58F-4F74-9FB3-65F3642C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E58-6D65-418E-A3FB-1CD9699D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3C5-96CC-4C50-8520-AC05AFA7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82F9-56F0-4D68-8422-DE303CF7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FACB-0B99-40D5-BA27-B3D1F484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CF9A-E95E-4BB4-9945-0B5F6724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BF00-35B3-40B2-AA33-9A007436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E320-EE5E-4972-8A98-68626FAD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68D8-87CA-4299-823D-61794FF2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1C19-AE75-4FB4-981E-3CDA0243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7C6-BAD6-4D76-8D52-5C5BA3F1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1D70-45CE-4D13-BCE0-477E6527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72AE-5331-46C8-AC2A-2EF8624A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3961-C76B-4E80-AD82-D1CFF6C2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9420-8B26-4E23-9DA5-C28DFBBE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BC3F-5801-4BD8-B003-DB659D01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E7CF-7A11-4CA4-AE9A-8502EA53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84F2-BF11-448C-92BD-A0233FBF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68A19-F279-43F6-A854-1250A7BF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B9A6-1A0B-4365-B6C5-E5CCBE18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3E2AE-3283-48A9-89D4-53A154CD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65C9-EBAF-4C2B-9341-9E294338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BAEE-80AC-4985-81D8-C8F0DDD6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17C4-D506-4166-9901-15EA172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6B8A-D460-4DE2-8298-636242C8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AF35-00EC-40C3-A0A5-4372F784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A9ED-ADD7-4BFD-BDF8-6CA68954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27354-8A33-4FF4-BB81-97C58675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D321-AFD2-43D4-8340-619A7D6B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EC61-F143-4CD1-95D8-92D5FBD2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2B9A0-8637-4D2F-9DAA-FE1893F4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000C3-131A-4059-BA70-B6BF81F6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248-98E1-43EA-89BF-5B64E67E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54EE2-03EA-42A3-B748-933F49ED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21977-987E-45AF-8D04-5A2238A3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EAB91-BCE4-49E0-80E8-1C54C0E1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E6506-9C63-4675-83BE-073AF920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F4A7B-FD88-4146-AB80-60A9D125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278DB-E998-46FA-8D03-48E1BCE8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9BFF0-022F-4529-AE16-50C362E8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DB81-0836-49C7-8941-05C08E34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5434-124A-4A79-A839-675E559F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21DB1-FA46-4E11-A154-C09631E8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EEF-A8A1-4021-9D72-A4437EAA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A85EE-89D6-42F9-BADA-58ACA89F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2880C-983E-471B-9CD0-767E2490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B2029-B722-4C74-B9DA-A6A587C4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048C5-B69F-4662-A8EE-7CE4E182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2DD1-0936-40B4-9111-2F6463DB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5C207-0350-4682-9B3E-2DDF1223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7016A-E082-4412-AFDE-A4A864F2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A443F-4E03-4B67-B278-AA60BFEB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0033-2199-43D1-BFE1-9D2A2E46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EC11D-BA5B-4016-882D-49E7299D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868-3792-4FE2-9341-CA224B7C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7AAC-81CC-4BF0-9B7C-BF379F7D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6F5C1-4155-444A-A903-2D4EA1A8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73495-0AEE-4DAD-8DFF-4D71CDDA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4897-C3AF-4D9E-BA3C-798D2587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2EB20-0172-49A3-819A-579EFB6E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9D244-AAE1-4ACD-BBBB-F2FA91BA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4FF5E-6BEA-4856-8F93-0A2783BD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120DC-420A-4623-B3CC-BAE153E5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8931A-6C66-45A0-B3B2-7353880F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E47C9-C9B8-4F8F-8625-CA26C70E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45D-521F-42EB-BE69-9FBB2926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49602-9CAD-408A-8DD6-06C7D859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F672D-E17F-4438-9595-1981AF43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45974-5712-4698-B39C-D4D4F30E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243-4B03-4B63-BF63-10424311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275-B3CC-47C8-999F-274A0EAD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6D6F-3368-4497-A619-9C1301085BA9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8528-4DA1-4488-8935-8472D7F620F5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3D19-4DDC-41BB-94C0-E94622892C09}" type="slidenum">
              <a:rPr b="0" lang="en-C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32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4951-2517-4005-B596-AF16FB24678D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7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AA66-7B27-4699-901C-0BFE93B24468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775D-57FC-4604-A48E-DA7A250129C7}" type="slidenum">
              <a:rPr b="0" lang="en-C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acontrol.com/image/biotechnology-introduction.jp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question_mark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250920" y="645336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marc.soton.ac.uk/Image%20File/new%20images/question_mark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285840" y="1695600"/>
            <a:ext cx="725472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440000" y="3314880"/>
            <a:ext cx="634032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: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676440" y="2266920"/>
            <a:ext cx="72547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828720" y="-6480"/>
            <a:ext cx="8102520" cy="17258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930560" y="3786120"/>
            <a:ext cx="355572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Haseeb 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Dongwei 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oundan 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008000" y="6280200"/>
            <a:ext cx="64803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999900"/>
                </a:solidFill>
                <a:uFillTx/>
                <a:latin typeface="Book Antiqua"/>
                <a:hlinkClick r:id="rId2"/>
              </a:rPr>
              <a:t>http://www.pacontrol.com/image/biotechnology-introduction.jpg</a:t>
            </a:r>
            <a:r>
              <a:rPr b="0" lang="en-CA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6" descr="Untitled-1 copy.gif"/>
          <p:cNvPicPr/>
          <p:nvPr/>
        </p:nvPicPr>
        <p:blipFill>
          <a:blip r:embed="rId3"/>
          <a:stretch/>
        </p:blipFill>
        <p:spPr>
          <a:xfrm>
            <a:off x="-19080" y="1414440"/>
            <a:ext cx="28353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Biotechnolog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Ethical Vie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Branches of Scien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Profes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Universi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5280" y="16286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Uses living organis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Agriculture, medicine, and enviro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Human u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Biotechnology as treat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http://www.dailygalaxy.com/photos/uncategorized/2007/08/21/origin_of_life2pic05_2.gif"/>
          <p:cNvPicPr/>
          <p:nvPr/>
        </p:nvPicPr>
        <p:blipFill>
          <a:blip r:embed="rId1"/>
          <a:stretch/>
        </p:blipFill>
        <p:spPr>
          <a:xfrm>
            <a:off x="5505480" y="2567160"/>
            <a:ext cx="2693880" cy="5576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http://www.co.weld.co.us/departments/health/happenings/images/antibiotics_1.jpg"/>
          <p:cNvPicPr/>
          <p:nvPr/>
        </p:nvPicPr>
        <p:blipFill>
          <a:blip r:embed="rId2"/>
          <a:stretch/>
        </p:blipFill>
        <p:spPr>
          <a:xfrm>
            <a:off x="1158840" y="3449520"/>
            <a:ext cx="3260880" cy="32371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878040" y="6410160"/>
            <a:ext cx="57020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70c0"/>
                </a:solidFill>
                <a:latin typeface="Book Antiqua"/>
              </a:rPr>
              <a:t>ht</a:t>
            </a:r>
            <a:r>
              <a:rPr b="0" lang="en-CA" sz="1100" spc="-1" strike="noStrike">
                <a:solidFill>
                  <a:srgbClr val="ffffff"/>
                </a:solidFill>
                <a:latin typeface="Book Antiqua"/>
              </a:rPr>
              <a:t>tp://www.co.weld.co.us/departments/health/happenings/images/antibiotics_1.jpg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4441680" y="5632560"/>
            <a:ext cx="4213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Book Antiqua"/>
              </a:rPr>
              <a:t>http://www.dailygalaxy.com/photos/uncategorized/2007/08/21/origin_of_life2pic05_2.gif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4000" y="54936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mmm. What is Biotechn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1" descr=""/>
          <p:cNvPicPr/>
          <p:nvPr/>
        </p:nvPicPr>
        <p:blipFill>
          <a:blip r:embed="rId1"/>
          <a:stretch/>
        </p:blipFill>
        <p:spPr>
          <a:xfrm>
            <a:off x="-6480" y="573120"/>
            <a:ext cx="5492880" cy="1206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271160" y="2230560"/>
            <a:ext cx="364644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82640" indent="-585720"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2640" indent="-585720"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2640" indent="-585720"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1987560" y="3724200"/>
            <a:ext cx="3900600" cy="4816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4516560" y="79200"/>
            <a:ext cx="3584520" cy="40356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1866960" y="6113520"/>
            <a:ext cx="56912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50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Book Antiqua"/>
              </a:rPr>
              <a:t>http://www.ogm.org/pages/showogm.php?cat=01&amp;ogmid=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Content Placeholder 4"/>
          <p:cNvSpPr/>
          <p:nvPr/>
        </p:nvSpPr>
        <p:spPr>
          <a:xfrm>
            <a:off x="554040" y="2003400"/>
            <a:ext cx="7466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09600" indent="-3096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ffffff"/>
                </a:solidFill>
                <a:latin typeface="Arial"/>
              </a:rPr>
              <a:t>Everyone has their own ethical view on thing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ffffff"/>
                </a:solidFill>
                <a:latin typeface="Arial"/>
              </a:rPr>
              <a:t>Biotechnology uses living organisms to make a produc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b050"/>
                </a:solidFill>
                <a:latin typeface="Arial"/>
              </a:rPr>
              <a:t>Doing this finds can prevent deadly diseases and death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ff0000"/>
                </a:solidFill>
                <a:latin typeface="Arial"/>
              </a:rPr>
              <a:t>Using living organisms is taking away their rights to live normally or just live at al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ffffff"/>
                </a:solidFill>
                <a:latin typeface="Arial"/>
              </a:rPr>
              <a:t>Hard to find a winning side because of unique ways of thinking </a:t>
            </a:r>
            <a:r>
              <a:rPr b="0" lang="en-CA" sz="2900" spc="-1" strike="noStrike">
                <a:solidFill>
                  <a:srgbClr val="ffffff"/>
                </a:solidFill>
                <a:latin typeface="Arial"/>
              </a:rPr>
              <a:t>in everyone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Rectangle 1" descr=""/>
          <p:cNvPicPr/>
          <p:nvPr/>
        </p:nvPicPr>
        <p:blipFill>
          <a:blip r:embed="rId1"/>
          <a:stretch/>
        </p:blipFill>
        <p:spPr>
          <a:xfrm>
            <a:off x="536400" y="530280"/>
            <a:ext cx="8089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1640" y="1031760"/>
            <a:ext cx="40179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ot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enetic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olecular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2" descr="http://cdbaby.name/l/e/leigharuss.jpg"/>
          <p:cNvPicPr/>
          <p:nvPr/>
        </p:nvPicPr>
        <p:blipFill>
          <a:blip r:embed="rId1"/>
          <a:stretch/>
        </p:blipFill>
        <p:spPr>
          <a:xfrm>
            <a:off x="1017720" y="658800"/>
            <a:ext cx="3206520" cy="63216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1008000" y="6151680"/>
            <a:ext cx="537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Book Antiqua"/>
              </a:rPr>
              <a:t>http://cdbaby.name/l/e/leigharuss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ontent Placeholder 2" descr=""/>
          <p:cNvPicPr/>
          <p:nvPr/>
        </p:nvPicPr>
        <p:blipFill>
          <a:blip r:embed="rId1"/>
          <a:stretch/>
        </p:blipFill>
        <p:spPr>
          <a:xfrm>
            <a:off x="950760" y="1957320"/>
            <a:ext cx="7596360" cy="422424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1" descr=""/>
          <p:cNvPicPr/>
          <p:nvPr/>
        </p:nvPicPr>
        <p:blipFill>
          <a:blip r:embed="rId2"/>
          <a:stretch/>
        </p:blipFill>
        <p:spPr>
          <a:xfrm>
            <a:off x="536400" y="530280"/>
            <a:ext cx="8089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1" descr=""/>
          <p:cNvPicPr/>
          <p:nvPr/>
        </p:nvPicPr>
        <p:blipFill>
          <a:blip r:embed="rId1"/>
          <a:stretch/>
        </p:blipFill>
        <p:spPr>
          <a:xfrm>
            <a:off x="878040" y="596880"/>
            <a:ext cx="7881840" cy="1208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1212480" y="2112840"/>
            <a:ext cx="7473960" cy="31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0600" indent="-293760">
              <a:spcBef>
                <a:spcPts val="774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rock University (MSc)(PhD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0600" indent="-293760">
              <a:spcBef>
                <a:spcPts val="774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ork Univers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0600" indent="-293760">
              <a:spcBef>
                <a:spcPts val="774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rleton Univers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0600" indent="-293760">
              <a:spcBef>
                <a:spcPts val="774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iversity of Toront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0600" indent="-293760">
              <a:spcBef>
                <a:spcPts val="774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iversity of Windsor (BSc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2" dur="2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1:27:24Z</dcterms:created>
  <dc:creator>Shad  mm</dc:creator>
  <dc:description/>
  <dc:language>en-US</dc:language>
  <cp:lastModifiedBy>Shad  mm</cp:lastModifiedBy>
  <dcterms:modified xsi:type="dcterms:W3CDTF">2008-12-25T02:17:39Z</dcterms:modified>
  <cp:revision>8</cp:revision>
  <dc:subject/>
  <dc:title>Biotechnology</dc:title>
</cp:coreProperties>
</file>